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A1C-4B7F-4A1B-9A62-41F7A097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98B-A191-4BD1-A898-5312CEF0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614-76B3-4558-A1A2-2E14D7D3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CE1-46F7-4D36-943D-924B4D81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16A-358B-407B-966C-FEE96D3C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157-029E-4E12-A7C9-B1D0B10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50B-CA70-4E4B-87EA-D8A5057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DA2-2F97-4F2B-A02A-6E344B4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90A-22FF-4E4C-92E4-49F5011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BC1-FC25-4464-BCE1-77207A9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B88-D64E-4760-94A9-DD29BCF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6FD-6CCC-407B-A3D7-5AF0643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5651-B16C-40BD-80DC-51F8D2BF8F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1371600"/>
            <a:ext cx="699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e 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appropri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hoice of Contro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7913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391520" cy="142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609588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31520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315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19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43000" y="4724280"/>
            <a:ext cx="7238880" cy="1689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34320" y="4419720"/>
            <a:ext cx="1447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651040"/>
            <a:ext cx="723924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238880" cy="94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3706920" cy="487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053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7238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7239240" cy="9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239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65760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5438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10280" y="34290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221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10280" y="27432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77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4:15Z</dcterms:modified>
  <cp:revision>212</cp:revision>
  <dc:subject/>
  <dc:title>Slide 1</dc:title>
</cp:coreProperties>
</file>